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907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725040" y="739440"/>
            <a:ext cx="534852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1280" y="937872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9B7A17-1C55-4BF0-8543-8C989D8A74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23960" y="73980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A09EE8-EAE6-461D-8191-24F183B26C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8520" cy="3701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A58D872-AAE6-47E1-8FD9-E76908DC01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8520" cy="3701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127B2A7-218F-4DA9-A342-B6F21BB9B65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8520" cy="3701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BC380DF-7316-40CF-B613-4400F6497E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8520" cy="3701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625F872-FEB4-4462-94C4-E26E5C9D13B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8520" cy="3701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5F695EF-998E-4280-9A45-21BAAB4DDC4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8520" cy="3701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6FA53B2-BDB4-47CC-92DF-0129113E647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8520" cy="3701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FBA91A-C3F2-40DA-A7CD-8018E1F72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8520" cy="3701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D19F1E2-E626-41A7-9FB2-C6C8F9AB69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8520" cy="3701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35580CE-F892-4D87-812D-34502CE1EE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8520" cy="3701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E856CD7-C10C-4C5F-9888-46881F46462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8520" cy="3701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1DD260A-B2BE-4FF5-BD81-0C303FE02BB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8520" cy="3701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16A99FF-6728-472D-B387-5F8081A5615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8520" cy="3701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68756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E022FD7-5AB7-4622-9664-60D7F5BF656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ADB7-CB6B-443D-9B62-E60706980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E49D-6AB5-49AB-B15C-C09F2A57B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3D7D-D737-4DBC-8146-01547936F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1971-5B83-4ECF-9ADA-28E6CCB2A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6C39-0A39-48FC-8134-4EF97129F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76D0-3747-44B9-8D32-1141AE183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E83B-8A07-410D-AC6E-E1C5415A3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1C62-79E4-4AB2-861E-E15C70658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86E0-DB1D-4D48-AE28-977E4AFEC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12D5-1BCB-482E-88ED-C2B9D77DA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EB2F-DFD3-4F04-BF8E-F6B8C9401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4F22-9038-48FA-A4D5-AC0AB9818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9906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33800" y="6579720"/>
            <a:ext cx="2311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8BD2-725B-4558-A02D-A7CDD081563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9906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9906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079"/>
          <p:cNvSpPr/>
          <p:nvPr/>
        </p:nvSpPr>
        <p:spPr>
          <a:xfrm>
            <a:off x="0" y="2708280"/>
            <a:ext cx="99061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Рефор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унитарных предприят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в рамках государственной политики по развитию конкурен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1365120" y="2205000"/>
            <a:ext cx="8541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ФЕДЕРАЛЬНАЯ АНТИМОНОПОЛЬНАЯ СЛ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77"/>
          <p:cNvSpPr/>
          <p:nvPr/>
        </p:nvSpPr>
        <p:spPr>
          <a:xfrm>
            <a:off x="5816520" y="5445000"/>
            <a:ext cx="4017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Заместитель руково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ФАС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.А. Пузыр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9 г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2"/>
          <p:cNvSpPr/>
          <p:nvPr/>
        </p:nvSpPr>
        <p:spPr>
          <a:xfrm>
            <a:off x="7427880" y="65944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CDDF-6FF5-4349-AA2E-76D9B1A1E124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380880" y="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рет ГУПов на конкурентных ры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380880" y="836640"/>
            <a:ext cx="918072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Проект федерального закона № 554026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Принят ГД РФ в перовом чтении</a:t>
            </a:r>
            <a:r>
              <a:rPr b="1" lang="ru-RU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Исклю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едеральные законы, акты Президента РФ или Правительств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обеспечения обороны и безопасност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сферах естественных монопо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переходный период – до 1 января 202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иквидация или реорганизац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в судебном порядке 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на конкурентных рынках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 иску антимонопольного органа в случае нарушения запрета (если собственником не приняты меры по реорган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2"/>
          <p:cNvSpPr/>
          <p:nvPr/>
        </p:nvSpPr>
        <p:spPr>
          <a:xfrm>
            <a:off x="7427880" y="65944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EE36-4D46-40A1-9304-40E065EC14B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380880" y="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рет ГУПов на конкурентных ры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66840" y="981000"/>
            <a:ext cx="88344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Поправки, внесенные Правительством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8c93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Дополнительные исклю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еспечение жизнедеятельности в районах 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Крайнего Сев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развитие культуры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, искусства, сохранение культурных цен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осуществление деятельности 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за пределами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нки, где отсутствует конкуренция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п</a:t>
            </a: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ереходный период – до 1 января 2023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иквидация или реорганизац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в судебном порядке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конкурентных рынках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 иску антимонопольного органа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 непринятии мер до указанного с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2"/>
          <p:cNvSpPr/>
          <p:nvPr/>
        </p:nvSpPr>
        <p:spPr>
          <a:xfrm>
            <a:off x="7427880" y="65944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C469-DE2C-41C0-B18F-950B7C949D4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1"/>
          <p:cNvSpPr/>
          <p:nvPr/>
        </p:nvSpPr>
        <p:spPr>
          <a:xfrm>
            <a:off x="380880" y="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рет ГУПов на конкурентных ры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378000" y="1152360"/>
            <a:ext cx="9144000" cy="49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Механизм антимонопольного контро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варительное заключение антимонопольного органа при создании унитарного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дствия нарушения запр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80"/>
                </a:solidFill>
                <a:latin typeface="Arial"/>
              </a:rPr>
              <a:t>предупреждение антимонопольного органа о принятии мер по реорганизации или ликвидации предпри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80"/>
                </a:solidFill>
                <a:latin typeface="Arial"/>
              </a:rPr>
              <a:t>возбуждение дела, выдача предпис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80"/>
                </a:solidFill>
                <a:latin typeface="Arial"/>
              </a:rPr>
              <a:t>обращение антимонопольного органа в суд с иском о ликвидации предприятия </a:t>
            </a:r>
            <a:r>
              <a:rPr b="0" lang="ru-RU" sz="2200" spc="-1" strike="noStrike" u="sng">
                <a:solidFill>
                  <a:srgbClr val="008080"/>
                </a:solidFill>
                <a:uFillTx/>
                <a:latin typeface="Arial"/>
              </a:rPr>
              <a:t>в случае неисполнения предпис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нтимонопольный орган должен установить, что рынок является конкурентным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2"/>
          <p:cNvSpPr/>
          <p:nvPr/>
        </p:nvSpPr>
        <p:spPr>
          <a:xfrm>
            <a:off x="7427880" y="65944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F241-60F1-4DA7-9604-3158D871C891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380880" y="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урентный ры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366840" y="971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каз ФАС России от 28.04.2010 № 2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«Об утверждении Порядка проведения анализа состояния конкуренции на товарном рынк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(Зарегистрирован в Минюсте России 02.08.2010 № 1802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419040" y="2562120"/>
            <a:ext cx="9072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Проводится оценка состояния конкуренции на товарном рынке, которая включает заключение о том, к какому виду рынков относится рассматриваемый товарный рыно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курентный рынок (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2 и более хозсубъект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нопольны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419040" y="4770360"/>
            <a:ext cx="898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именьший временной интервал анализа состояния конкуренции должен составлять один год или срок существования товарного рынка, если он составляет менее чем один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2"/>
          <p:cNvSpPr/>
          <p:nvPr/>
        </p:nvSpPr>
        <p:spPr>
          <a:xfrm>
            <a:off x="7427880" y="65944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7614-9A2D-4CC0-9C14-C1B5B6690AB7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380880" y="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рет ГУПов на конкурентных ры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704880" y="1484280"/>
            <a:ext cx="865188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Переходный период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реходный период – до 1 январ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Предусмотре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организация в АО или ООО при осуществлении деятельности на конкурентных рын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организация в учреждения для решения социальны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икви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2"/>
          <p:cNvSpPr/>
          <p:nvPr/>
        </p:nvSpPr>
        <p:spPr>
          <a:xfrm>
            <a:off x="7427880" y="65944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039E-A0D4-4453-B36A-92A00E19485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638280" y="11592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ественные об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31640" y="1103400"/>
            <a:ext cx="911232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арламентские слушания с участием представителей всех фракций Государственной Думы Федерального Собрания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седание Комитета Совета Федерации РФ по федеративному устройству, региональной политике, местному самоуправлению и делам Сев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седания Комитетов Государственной Думы Федерального             Собрания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щественная Палат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ссийский муниципальный фору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суждение на Российской трехсторонней комиссии по регулированию социально-трудов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бочие встречи с участием представителей ФАС России и органов исполнительной власти субъектов проведены во всех регионах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1"/>
          <p:cNvSpPr/>
          <p:nvPr/>
        </p:nvSpPr>
        <p:spPr>
          <a:xfrm>
            <a:off x="7634160" y="6580080"/>
            <a:ext cx="231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3224-4A7B-4D58-BF34-0138C26EF250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762120" y="4428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ры по снижению затрат на реорганиз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447840" y="1292400"/>
            <a:ext cx="890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авительством РФ подготовлен проект Федерального Закона «О внесении изменений в статью 333.35 НК РФ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436680" y="3151080"/>
            <a:ext cx="89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Освобождает уплаты государственной пошлины при государственной регистрации прав, ограничений (обременений) прав на недвижимое имущество при реорганизации унитарных предприятий (в период по 31.12.2022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1155600" y="533520"/>
            <a:ext cx="79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1"/>
          <p:cNvGrpSpPr/>
          <p:nvPr/>
        </p:nvGrpSpPr>
        <p:grpSpPr>
          <a:xfrm>
            <a:off x="2865600" y="2565360"/>
            <a:ext cx="4705200" cy="2362320"/>
            <a:chOff x="2865600" y="2565360"/>
            <a:chExt cx="4705200" cy="2362320"/>
          </a:xfrm>
        </p:grpSpPr>
        <p:pic>
          <p:nvPicPr>
            <p:cNvPr id="147" name="Picture 5" descr="FAS-logo-color.jpg"/>
            <p:cNvPicPr/>
            <p:nvPr/>
          </p:nvPicPr>
          <p:blipFill>
            <a:blip r:embed="rId1"/>
            <a:stretch/>
          </p:blipFill>
          <p:spPr>
            <a:xfrm>
              <a:off x="3030480" y="2565360"/>
              <a:ext cx="5778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6" descr="14098_427100966728_20531316728_5146316_6182604_n.jpg"/>
            <p:cNvPicPr/>
            <p:nvPr/>
          </p:nvPicPr>
          <p:blipFill>
            <a:blip r:embed="rId2"/>
            <a:stretch/>
          </p:blipFill>
          <p:spPr>
            <a:xfrm>
              <a:off x="3030480" y="3403440"/>
              <a:ext cx="5778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7" descr="twitter_newbird_blue.png"/>
            <p:cNvPicPr/>
            <p:nvPr/>
          </p:nvPicPr>
          <p:blipFill>
            <a:blip r:embed="rId3"/>
            <a:stretch/>
          </p:blipFill>
          <p:spPr>
            <a:xfrm>
              <a:off x="2865600" y="4089600"/>
              <a:ext cx="9079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8"/>
            <p:cNvSpPr/>
            <p:nvPr/>
          </p:nvSpPr>
          <p:spPr>
            <a:xfrm>
              <a:off x="3797280" y="2641320"/>
              <a:ext cx="360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99"/>
                  </a:solidFill>
                  <a:latin typeface="Arial"/>
                </a:rPr>
                <a:t>www.fas.gov.ru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9"/>
            <p:cNvSpPr/>
            <p:nvPr/>
          </p:nvSpPr>
          <p:spPr>
            <a:xfrm>
              <a:off x="3797280" y="3413880"/>
              <a:ext cx="360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99"/>
                  </a:solidFill>
                  <a:latin typeface="Arial"/>
                </a:rPr>
                <a:t>FAS-boo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0"/>
            <p:cNvSpPr/>
            <p:nvPr/>
          </p:nvSpPr>
          <p:spPr>
            <a:xfrm>
              <a:off x="3797280" y="4165560"/>
              <a:ext cx="377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99"/>
                  </a:solidFill>
                  <a:latin typeface="Arial"/>
                </a:rPr>
                <a:t>rus_fa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15800" y="1028880"/>
            <a:ext cx="864072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</a:rPr>
              <a:t>Для оценки состояния конкуренции ФАС России ежегодно представляе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</a:rPr>
              <a:t>Доклад о состоянии конкуренц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7634160" y="6580080"/>
            <a:ext cx="231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DDD5-84F9-4BD5-85B6-DEC6DB9335F1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Заголовок 1"/>
          <p:cNvSpPr/>
          <p:nvPr/>
        </p:nvSpPr>
        <p:spPr>
          <a:xfrm>
            <a:off x="1830240" y="0"/>
            <a:ext cx="80758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лад о состоянии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920880" y="2708280"/>
            <a:ext cx="8505720" cy="33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Mangal"/>
              </a:rPr>
              <a:t>Сохранились государственно-монополистические тенденции в экономи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Mangal"/>
              </a:rPr>
              <a:t>Во многих потенциально конкурентных сферах частный бизнес отсутствует или недостато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Mangal"/>
              </a:rPr>
              <a:t>ГУПы и МУПы препятствуют развитию конкур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Mangal"/>
              </a:rPr>
              <a:t>ГУПы создают условия для «обхода» конкуренции на закупках и вывода государственной соб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2"/>
          <p:cNvSpPr/>
          <p:nvPr/>
        </p:nvSpPr>
        <p:spPr>
          <a:xfrm>
            <a:off x="7427880" y="65944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ED81-85DA-4EA3-AB14-F152C154D767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747720" y="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нитарные предприятия на конкурентных ры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88880" y="1476360"/>
            <a:ext cx="851544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на 01.01.2019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зарегистрировано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6 867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нитарных предприятий, что на </a:t>
            </a: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49,9% больш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чем на 01.01.2013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1 252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сновная доля приходится на 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уровень местного самоуправления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– более </a:t>
            </a: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ольшая доля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унитарных предприятий осуществляют деятельность 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на конкурентных ры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2"/>
          <p:cNvSpPr/>
          <p:nvPr/>
        </p:nvSpPr>
        <p:spPr>
          <a:xfrm>
            <a:off x="7427880" y="65944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B062-DD4C-484B-80E1-6C3C87F4413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631800" y="906480"/>
            <a:ext cx="851544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Присутствие унитарных предприятий на конкурентных рынках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Всего 56,9 %.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еятельность п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ерациям с недвижимым имуществом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сдача имущества в аренду) 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4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4 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рговл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6,2 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льское, лесное хозяйство, охота и рыболовств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6,4 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роительств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3,8%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еятельнос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стиниц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 предприятий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щественного питания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– 2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По данным Росстата на 01.01.2019 за исключением сфер естественных монопол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747720" y="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нитарные предприятия на конкурентных ры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2"/>
          <p:cNvSpPr/>
          <p:nvPr/>
        </p:nvSpPr>
        <p:spPr>
          <a:xfrm>
            <a:off x="7427880" y="65944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55F0-9C6A-4223-918C-FCE78A6E7909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71360" y="2320920"/>
            <a:ext cx="950436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Прогнозируемые поступления в бюджеты субъектов РФ от перечисления части прибыли ГУП в 2019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По данным бюджетов 58 регионов* - 865 167,8 тыс. ру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в том чис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Санкт-Петербург – 111 632,7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Республика Крым – 266 098,4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*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Законы о бюджетах иных регионов не содержат информацию о перечислениях прибыли от деятельности ГУ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747720" y="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гнозируемые поступления в бюджеты реги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357120" y="1125360"/>
            <a:ext cx="913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нитарным предприятие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изнается коммерческая организация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не наделенная правом собственности на имущество, закрепленное за ней собственником (ч.1 ст. 2 Федерального закона № 161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2"/>
          <p:cNvSpPr/>
          <p:nvPr/>
        </p:nvSpPr>
        <p:spPr>
          <a:xfrm>
            <a:off x="7427880" y="65944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7305-2A42-4FB7-80C2-D911F164516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95160" y="868320"/>
            <a:ext cx="8515440" cy="55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Злоупотребления в деятельности унитарных предприят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ногие унитарные предприятия 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не осуществляют какой-либо профильной деятельност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кроме сдачи объектов в арен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тсутствует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лная и достоверная 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информация об имуществе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нитарных предприятий, особенно муниципа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нитарные предприятия часто используются для 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ухода от конкурентных процедур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ри осуществлении закупок, распоряжении государственным имуществом и земельными участ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тсутствие рыночных сигналов для оценки эффективност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ятельности унитарных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«Защищенный спрос»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 продукцию унитарных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еограниченные возможности 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внесения в уставные фонды имущества и бюджет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747720" y="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нитарные предприятия на конкурентных ры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2"/>
          <p:cNvSpPr/>
          <p:nvPr/>
        </p:nvSpPr>
        <p:spPr>
          <a:xfrm>
            <a:off x="7427880" y="65944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61A8-017E-447E-929E-B8E0B7D8D5AB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695160" y="907920"/>
            <a:ext cx="851544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Негативные последствия деятельности унитарных предприят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арьеры создания и деятельности на конкурентных рынках частных предприятий, которые при наличии на таком рынке ГУПа (МУПа) автоматически попадают в неравные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сключение рыночного контроля деятельности предприятий, что зачастую приводит к их неэффе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Вывод: 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еятельность унитарных предприятий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азывае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гативное влияние на конкуренцию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на локальных рынках и влечет их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нополиз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Заголовок 1"/>
          <p:cNvSpPr/>
          <p:nvPr/>
        </p:nvSpPr>
        <p:spPr>
          <a:xfrm>
            <a:off x="747720" y="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нитарные предприятия на конкурентных ры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15560"/>
            <a:ext cx="91440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циональный план развития конкуренци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21240" y="907920"/>
            <a:ext cx="47512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e9f"/>
                </a:solidFill>
                <a:latin typeface="Times New Roman"/>
                <a:ea typeface="Times New Roman"/>
              </a:rPr>
              <a:t>Указ Президента Российской Федерации от 21.12.2017 № 618 «Об основных направлениях государственной политики по развитию конкуренции»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7634160" y="6580080"/>
            <a:ext cx="231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9298-EA3C-49D2-8B8F-DD7725F65B9D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5" descr=""/>
          <p:cNvPicPr/>
          <p:nvPr/>
        </p:nvPicPr>
        <p:blipFill>
          <a:blip r:embed="rId1"/>
          <a:stretch/>
        </p:blipFill>
        <p:spPr>
          <a:xfrm>
            <a:off x="1136520" y="930240"/>
            <a:ext cx="2301840" cy="17272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88880" y="2635200"/>
            <a:ext cx="90360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Национальный план развития конкур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в Российской Федерации на 2018 - 2020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кращение доли хозяйствующих субъектов, учреждаемых или контролируемых государством или муниципальными образованиями, в общем количестве хозяйствующих субъектов, осуществляющих деятельность на товарных рын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казания Президента РФ от 02.09.2018, 24.07.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споряжение Правительства РФ от 16.08.2018 № 1697-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2"/>
          <a:stretch/>
        </p:blipFill>
        <p:spPr>
          <a:xfrm>
            <a:off x="266760" y="3570120"/>
            <a:ext cx="86976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7634160" y="6580080"/>
            <a:ext cx="231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7DE9-5CE5-458F-9F96-DCCA29316948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15800" y="1208160"/>
          <a:ext cx="9145800" cy="4819680"/>
        </p:xfrm>
        <a:graphic>
          <a:graphicData uri="http://schemas.openxmlformats.org/drawingml/2006/table">
            <a:tbl>
              <a:tblPr/>
              <a:tblGrid>
                <a:gridCol w="3079800"/>
                <a:gridCol w="1809720"/>
                <a:gridCol w="2095560"/>
                <a:gridCol w="2160720"/>
              </a:tblGrid>
              <a:tr h="11739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убъекта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нитарных предприятий на 01.01.201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нитарных предприятий на 01.01.2019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сн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8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евастоп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6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Мос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,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ангельская область и Ненецкий А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рахан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-Балкарская Республ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8,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нинград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,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город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ар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,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9160" y="115560"/>
            <a:ext cx="91440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ионы с наибольшей динамикой снижения УП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72880" y="6311880"/>
            <a:ext cx="94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* По данным из ЕГРЮ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06:30:34Z</dcterms:created>
  <dc:creator>Нагайчук Е.Г.</dc:creator>
  <dc:description/>
  <dc:language>en-US</dc:language>
  <cp:lastModifiedBy>GorshkovaAV</cp:lastModifiedBy>
  <cp:lastPrinted>2019-10-14T08:57:21Z</cp:lastPrinted>
  <dcterms:modified xsi:type="dcterms:W3CDTF">2019-10-16T10:06:18Z</dcterms:modified>
  <cp:revision>709</cp:revision>
  <dc:subject/>
  <dc:title>Слайд 1</dc:title>
</cp:coreProperties>
</file>